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18299113" cy="1028858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1BC-5E2C-4E16-8171-2CBB7E3F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2C8-36B3-4C0F-8DE4-9DF57F91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C9F-1013-4201-9547-0B1E387D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84C-D67C-4AF8-8EA4-1D8EAF1E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1B4B-3962-432D-9B1A-51F21A86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DD85-917A-47BC-9029-B9885D20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8AFD-DCF7-43AF-A35C-778A066D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0363-1CDC-43AB-8FC6-60226FC1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5719-7E28-46DC-A78B-614736DC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A6C2-D8B4-4B61-AE3E-19FDA421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8C2B-376F-4ECB-B56D-C70E08A1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957-9513-4418-9933-77966D7D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1200-52F4-4893-8143-C72A6813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D15E-42A1-46E4-A638-64E3238A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E63E-901B-4CA8-84A5-0207A67E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09E7-4E45-4E8D-95CB-AA304E7C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2EB8-814B-4330-B6C2-3744AA06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7B2DC-5090-4E8A-8D90-8386F1D9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07FEF-8E6E-4E64-8562-A390DBD7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17BDD-AE68-4632-9221-7C5EC83D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C2C94-D50F-4E40-A852-250B4B6E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0085F-E473-431D-9B05-31AD4D76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800-3AC6-42D4-8396-95D8F114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E6D5F-A945-4CEB-A9FB-2ACD4778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9AD9-82D3-45FC-A16C-E817D628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17FF0-97EF-4F2C-9DD4-DBC993DF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0BD7-894D-476E-BC2B-2B2B00D6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B3320-1381-4DCE-8A8D-829DAC19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F7E6A-2FEC-428A-9583-608247F4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5A073-6A54-4BCB-9E01-87F0C369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77D-3AA8-41D7-ACE4-B9D521FF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D22-14DF-456C-9F91-0CA2B4E6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AA3C-3CFA-4C8F-A763-07413599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51C-1892-44E7-B5D8-55CC96A0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CE5D-F242-42DB-A537-2E4D420C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70A-FD08-4FAB-8F83-7337FD58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7256-0B6D-43E6-8831-F49D46797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6856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2400480"/>
            <a:ext cx="164685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14400" y="9534240"/>
            <a:ext cx="42703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251400" y="9534240"/>
            <a:ext cx="57945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13112640" y="9534240"/>
            <a:ext cx="42703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2F38-7A27-4B84-BACE-23B2AED26B65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図 7" descr="イベント情報横bg-01.jpg"/>
          <p:cNvPicPr/>
          <p:nvPr/>
        </p:nvPicPr>
        <p:blipFill>
          <a:blip r:embed="rId2"/>
          <a:stretch/>
        </p:blipFill>
        <p:spPr>
          <a:xfrm>
            <a:off x="4680" y="0"/>
            <a:ext cx="18288000" cy="1028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図 8" descr="セミナー横_bg.jpg"/>
          <p:cNvPicPr/>
          <p:nvPr/>
        </p:nvPicPr>
        <p:blipFill>
          <a:blip r:embed="rId2"/>
          <a:stretch/>
        </p:blipFill>
        <p:spPr>
          <a:xfrm>
            <a:off x="-115920" y="-68400"/>
            <a:ext cx="18529200" cy="10423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CCE0-742E-4A9B-A2C3-4AA4A4E96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3"/>
          <p:cNvSpPr/>
          <p:nvPr/>
        </p:nvSpPr>
        <p:spPr>
          <a:xfrm>
            <a:off x="0" y="9031320"/>
            <a:ext cx="182973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10"/>
          <p:cNvSpPr/>
          <p:nvPr/>
        </p:nvSpPr>
        <p:spPr>
          <a:xfrm>
            <a:off x="4595760" y="929340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図 31" descr="セミナー横_パーツ1.png"/>
          <p:cNvPicPr/>
          <p:nvPr/>
        </p:nvPicPr>
        <p:blipFill>
          <a:blip r:embed="rId1"/>
          <a:stretch/>
        </p:blipFill>
        <p:spPr>
          <a:xfrm>
            <a:off x="5719680" y="214200"/>
            <a:ext cx="6858000" cy="1905120"/>
          </a:xfrm>
          <a:prstGeom prst="rect">
            <a:avLst/>
          </a:prstGeom>
          <a:ln w="0">
            <a:noFill/>
          </a:ln>
        </p:spPr>
      </p:pic>
      <p:sp>
        <p:nvSpPr>
          <p:cNvPr id="134" name="テキスト ボックス 36"/>
          <p:cNvSpPr/>
          <p:nvPr/>
        </p:nvSpPr>
        <p:spPr>
          <a:xfrm>
            <a:off x="9629640" y="3898800"/>
            <a:ext cx="757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37"/>
          <p:cNvSpPr/>
          <p:nvPr/>
        </p:nvSpPr>
        <p:spPr>
          <a:xfrm>
            <a:off x="11226960" y="69213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/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：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 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テキスト ボックス 38"/>
          <p:cNvSpPr/>
          <p:nvPr/>
        </p:nvSpPr>
        <p:spPr>
          <a:xfrm>
            <a:off x="11226960" y="61531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図 25" descr="セミナー縦_パーツ2.png"/>
          <p:cNvPicPr/>
          <p:nvPr/>
        </p:nvPicPr>
        <p:blipFill>
          <a:blip r:embed="rId2"/>
          <a:stretch/>
        </p:blipFill>
        <p:spPr>
          <a:xfrm>
            <a:off x="385920" y="2608200"/>
            <a:ext cx="8115120" cy="1527120"/>
          </a:xfrm>
          <a:prstGeom prst="rect">
            <a:avLst/>
          </a:prstGeom>
          <a:ln w="0">
            <a:noFill/>
          </a:ln>
        </p:spPr>
      </p:pic>
      <p:pic>
        <p:nvPicPr>
          <p:cNvPr id="138" name="図 26" descr="セミナー縦_パーツ3.png"/>
          <p:cNvPicPr/>
          <p:nvPr/>
        </p:nvPicPr>
        <p:blipFill>
          <a:blip r:embed="rId3"/>
          <a:stretch/>
        </p:blipFill>
        <p:spPr>
          <a:xfrm>
            <a:off x="9656640" y="6153120"/>
            <a:ext cx="1428840" cy="762120"/>
          </a:xfrm>
          <a:prstGeom prst="rect">
            <a:avLst/>
          </a:prstGeom>
          <a:ln w="0">
            <a:noFill/>
          </a:ln>
        </p:spPr>
      </p:pic>
      <p:pic>
        <p:nvPicPr>
          <p:cNvPr id="139" name="図 27" descr="セミナー縦_パーツ4.png"/>
          <p:cNvPicPr/>
          <p:nvPr/>
        </p:nvPicPr>
        <p:blipFill>
          <a:blip r:embed="rId4"/>
          <a:stretch/>
        </p:blipFill>
        <p:spPr>
          <a:xfrm>
            <a:off x="9656640" y="6945480"/>
            <a:ext cx="1428840" cy="761760"/>
          </a:xfrm>
          <a:prstGeom prst="rect">
            <a:avLst/>
          </a:prstGeom>
          <a:ln w="0">
            <a:noFill/>
          </a:ln>
        </p:spPr>
      </p:pic>
      <p:pic>
        <p:nvPicPr>
          <p:cNvPr id="140" name="図 28" descr="セミナー縦_パーツ5.png"/>
          <p:cNvPicPr/>
          <p:nvPr/>
        </p:nvPicPr>
        <p:blipFill>
          <a:blip r:embed="rId5"/>
          <a:stretch/>
        </p:blipFill>
        <p:spPr>
          <a:xfrm>
            <a:off x="9656640" y="7664400"/>
            <a:ext cx="1428840" cy="762120"/>
          </a:xfrm>
          <a:prstGeom prst="rect">
            <a:avLst/>
          </a:prstGeom>
          <a:ln w="0">
            <a:noFill/>
          </a:ln>
        </p:spPr>
      </p:pic>
      <p:sp>
        <p:nvSpPr>
          <p:cNvPr id="141" name="正方形/長方形 44"/>
          <p:cNvSpPr/>
          <p:nvPr/>
        </p:nvSpPr>
        <p:spPr>
          <a:xfrm>
            <a:off x="9881280" y="321480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45"/>
          <p:cNvSpPr/>
          <p:nvPr/>
        </p:nvSpPr>
        <p:spPr>
          <a:xfrm>
            <a:off x="11226960" y="7710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正方形/長方形 29"/>
          <p:cNvSpPr/>
          <p:nvPr/>
        </p:nvSpPr>
        <p:spPr>
          <a:xfrm>
            <a:off x="1365120" y="280512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○○○○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図 19" descr="あたり用写真.jpg"/>
          <p:cNvPicPr/>
          <p:nvPr/>
        </p:nvPicPr>
        <p:blipFill>
          <a:blip r:embed="rId6"/>
          <a:stretch/>
        </p:blipFill>
        <p:spPr>
          <a:xfrm>
            <a:off x="682560" y="4327560"/>
            <a:ext cx="7504200" cy="4187880"/>
          </a:xfrm>
          <a:prstGeom prst="rect">
            <a:avLst/>
          </a:prstGeom>
          <a:ln w="0">
            <a:noFill/>
          </a:ln>
        </p:spPr>
      </p:pic>
      <p:sp>
        <p:nvSpPr>
          <p:cNvPr id="145" name="テキスト ボックス 20"/>
          <p:cNvSpPr/>
          <p:nvPr/>
        </p:nvSpPr>
        <p:spPr>
          <a:xfrm>
            <a:off x="9921960" y="62118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21"/>
          <p:cNvSpPr/>
          <p:nvPr/>
        </p:nvSpPr>
        <p:spPr>
          <a:xfrm>
            <a:off x="9921960" y="70174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22"/>
          <p:cNvSpPr/>
          <p:nvPr/>
        </p:nvSpPr>
        <p:spPr>
          <a:xfrm>
            <a:off x="9921960" y="77374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3:51Z</dcterms:modified>
  <cp:revision>60</cp:revision>
  <dc:subject/>
  <dc:title>スライド 1</dc:title>
</cp:coreProperties>
</file>